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741B-C58B-4AF2-A8BF-491F756C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360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6E59-144B-4C02-8408-824E0D1A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4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D853-70AA-4990-B797-58B0A666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64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28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64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28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80A-973F-42C9-AC80-0634F3EF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F426-198B-41D3-8ABA-C2BB58CF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9769-599D-4F55-9712-1AC335B2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C346-36B5-4761-952E-07892B7D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6343-5EB6-4015-A634-01A93C8A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9599-2C93-4B7F-98DD-7C36FCC2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7E50-134A-4AF6-8AEB-26958281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0731-D14C-4371-B8FC-17F8126C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FDE-D806-47E7-AD75-CD5D2C68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34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3199-1455-4AE9-B142-18706787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3A3D-F82F-408D-8E51-805FBE54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000" y="360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4110-0B58-446C-B143-9566A935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34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E45B-919E-46DE-9E3F-267A4B0A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964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2428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00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0964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2428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CD6F-ADD4-4761-895B-84E043EC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5592C-006A-4350-B913-3C3D1E13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28CA9-5636-4665-9BCD-42D0FF30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A025B-9D20-4C2B-A3EE-BE889561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910FC-91E6-4D87-B7B5-26A8D3D0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752D3-F79C-48A6-9674-3E72B336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9DC-8127-4F51-BF25-8B9C0CE0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B1F5E-AFD9-4961-9857-14A95117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ACD09-477F-457A-A492-9BE91F49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34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B6DB6-0EAC-4929-A223-C6C6C0ED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7DB1A-C3B1-477D-80C5-5AD0DDBF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000" y="360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7C125-773F-4B16-9056-A0119F8A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34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18E62-E5E8-4218-9016-2375B3F2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964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2428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00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0964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2428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A9AE9-9F41-45A5-9B4A-4549ADC1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F9C7C-D76B-4AD4-8A6D-7D884D91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28925-DD4A-4F1E-A60A-90FAB705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E653C-3834-478C-9050-6A34CDEB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C8B-B3D7-4D56-B9EB-0D59B3C8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699D6-5924-434C-BB6C-225669AE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96595-C576-43B0-808C-96AED780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54BB8-51F1-47DB-B38D-FFF06A9C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96591-8B57-4A82-9318-E2806BF2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634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4C76F-B07B-47D8-8E40-8F716088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F4979-0B6B-4F80-8B72-2840D78F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5000" y="360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1B457-D5BC-4C73-88BC-19B4EF51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634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B65B3-6524-4084-8E5F-20652F9D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0964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24280" y="1244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9500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0964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524280" y="360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A997E-148F-413D-8786-B7F173FD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494-8D73-4972-865F-3E287140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DBAC-FB02-4268-941E-53DEC49B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FBE-C663-450C-ABB0-566E7D1C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400" y="360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6C1-4805-4046-8683-AE2A0CF6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244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60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D83-5295-4AB2-885A-05F2E36D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833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486120"/>
            <a:ext cx="23112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464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5FBB1-FEBB-4108-A2C9-5C38071F35BF}" type="datetime2">
              <a:rPr b="0" lang="en-US" sz="1000" spc="-1" strike="noStrike">
                <a:solidFill>
                  <a:srgbClr val="646463"/>
                </a:solidFill>
                <a:latin typeface="Times New Roman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486120"/>
            <a:ext cx="4311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6464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646463"/>
                </a:solidFill>
                <a:latin typeface="Times New Roman"/>
              </a:rPr>
              <a:t>IGAD CLIMATE PREDICTION AND APPLICATIONS CENTRE (</a:t>
            </a:r>
            <a:r>
              <a:rPr b="1" lang="en-GB" sz="1000" spc="-1" strike="noStrike">
                <a:solidFill>
                  <a:srgbClr val="646463"/>
                </a:solidFill>
                <a:latin typeface="Times New Roman"/>
              </a:rPr>
              <a:t>ICPAC</a:t>
            </a:r>
            <a:r>
              <a:rPr b="0" lang="en-GB" sz="1000" spc="-1" strike="noStrike">
                <a:solidFill>
                  <a:srgbClr val="646463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47240" y="6486120"/>
            <a:ext cx="3888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464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AED05-E4F7-4392-BC24-057F83C668C6}" type="slidenum">
              <a:rPr b="0" lang="en-US" sz="1000" spc="-1" strike="noStrike">
                <a:solidFill>
                  <a:srgbClr val="64646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8"/>
          <p:cNvSpPr/>
          <p:nvPr/>
        </p:nvSpPr>
        <p:spPr>
          <a:xfrm>
            <a:off x="495360" y="5770440"/>
            <a:ext cx="8915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2"/>
          <a:stretch/>
        </p:blipFill>
        <p:spPr>
          <a:xfrm>
            <a:off x="8661240" y="5856120"/>
            <a:ext cx="938520" cy="92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"/>
          <p:cNvPicPr/>
          <p:nvPr/>
        </p:nvPicPr>
        <p:blipFill>
          <a:blip r:embed="rId2"/>
          <a:stretch/>
        </p:blipFill>
        <p:spPr>
          <a:xfrm>
            <a:off x="4038480" y="228600"/>
            <a:ext cx="1494000" cy="147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3"/>
          <a:stretch/>
        </p:blipFill>
        <p:spPr>
          <a:xfrm>
            <a:off x="8915400" y="5854680"/>
            <a:ext cx="838080" cy="825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833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95360" y="6486120"/>
            <a:ext cx="23112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464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CB4F4-A95C-4865-B679-9E6562D45B16}" type="datetime2">
              <a:rPr b="0" lang="en-US" sz="1000" spc="-1" strike="noStrike">
                <a:solidFill>
                  <a:srgbClr val="646463"/>
                </a:solidFill>
                <a:latin typeface="Times New Roman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971440" y="6489720"/>
            <a:ext cx="426708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6464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646463"/>
                </a:solidFill>
                <a:latin typeface="Times New Roman"/>
              </a:rPr>
              <a:t>IGAD CLIMATE PREDICTION AND APPLICATIONS CENTRE (</a:t>
            </a:r>
            <a:r>
              <a:rPr b="1" lang="en-GB" sz="1000" spc="-1" strike="noStrike">
                <a:solidFill>
                  <a:srgbClr val="646463"/>
                </a:solidFill>
                <a:latin typeface="Times New Roman"/>
              </a:rPr>
              <a:t>ICPAC</a:t>
            </a:r>
            <a:r>
              <a:rPr b="0" lang="en-GB" sz="1000" spc="-1" strike="noStrike">
                <a:solidFill>
                  <a:srgbClr val="646463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47240" y="6486120"/>
            <a:ext cx="3888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464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8B30F-EF69-44A2-9990-765041CB6506}" type="slidenum">
              <a:rPr b="0" lang="en-US" sz="1000" spc="-1" strike="noStrike">
                <a:solidFill>
                  <a:srgbClr val="64646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3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traight Connector 9"/>
          <p:cNvSpPr/>
          <p:nvPr/>
        </p:nvSpPr>
        <p:spPr>
          <a:xfrm>
            <a:off x="495360" y="5811840"/>
            <a:ext cx="893268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D:\WNJ\COMMUNICATIONS\IGAD guidelines\IGAD logo\IGAD JPEG - low Rez.jpg"/>
          <p:cNvPicPr/>
          <p:nvPr/>
        </p:nvPicPr>
        <p:blipFill>
          <a:blip r:embed="rId2"/>
          <a:stretch/>
        </p:blipFill>
        <p:spPr>
          <a:xfrm>
            <a:off x="8991720" y="5908680"/>
            <a:ext cx="761760" cy="801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833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95360" y="6486120"/>
            <a:ext cx="23112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3E5DB-CBFF-40CA-B19A-97CD031A73D4}" type="datetime2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971440" y="6486120"/>
            <a:ext cx="4311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GAD CLIMATE PREDICTION AND APPLICATIONS CENTRE (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CPAC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47240" y="6486120"/>
            <a:ext cx="3888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D5496-C627-4F7D-B27A-E39E31987F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traight Connector 8"/>
          <p:cNvSpPr/>
          <p:nvPr/>
        </p:nvSpPr>
        <p:spPr>
          <a:xfrm>
            <a:off x="495360" y="5770440"/>
            <a:ext cx="8915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2"/>
          <a:stretch/>
        </p:blipFill>
        <p:spPr>
          <a:xfrm>
            <a:off x="8661240" y="5856120"/>
            <a:ext cx="938520" cy="9255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833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95360" y="6486120"/>
            <a:ext cx="23112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464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E18EB-1348-433D-AC6C-5E41333A23E3}" type="datetime2">
              <a:rPr b="0" lang="en-US" sz="1000" spc="-1" strike="noStrike">
                <a:solidFill>
                  <a:srgbClr val="646463"/>
                </a:solidFill>
                <a:latin typeface="Times New Roman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486120"/>
            <a:ext cx="4232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6464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646463"/>
                </a:solidFill>
                <a:latin typeface="Times New Roman"/>
              </a:rPr>
              <a:t>IGAD CLIMATE PREDICTION AND APPLICATIONS CENTRE (</a:t>
            </a:r>
            <a:r>
              <a:rPr b="1" lang="en-GB" sz="1000" spc="-1" strike="noStrike">
                <a:solidFill>
                  <a:srgbClr val="646463"/>
                </a:solidFill>
                <a:latin typeface="Times New Roman"/>
              </a:rPr>
              <a:t>ICPAC</a:t>
            </a:r>
            <a:r>
              <a:rPr b="0" lang="en-GB" sz="1000" spc="-1" strike="noStrike">
                <a:solidFill>
                  <a:srgbClr val="646463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247240" y="6486120"/>
            <a:ext cx="3888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464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623BB-53A1-4491-84DE-5EA941C4CAD3}" type="slidenum">
              <a:rPr b="0" lang="en-US" sz="1000" spc="-1" strike="noStrike">
                <a:solidFill>
                  <a:srgbClr val="64646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960" y="2362320"/>
            <a:ext cx="96771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SECTORAL REPORTING: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CLIMATE CHANGE</a:t>
            </a:r>
            <a:br>
              <a:rPr sz="3200"/>
            </a:br>
            <a:r>
              <a:rPr b="1" lang="en-US" sz="3200" spc="-1" strike="noStrike">
                <a:solidFill>
                  <a:srgbClr val="00833f"/>
                </a:solidFill>
                <a:latin typeface="Arial Black"/>
              </a:rPr>
              <a:t>IMPLICATIONS, IMPACTS AND RESPONSE STRATEGIES - MEDIUM TO LONG-TERM</a:t>
            </a:r>
            <a:br>
              <a:rPr sz="3200"/>
            </a:br>
            <a:endParaRPr b="0" lang="en-US" sz="32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373480" y="6286680"/>
            <a:ext cx="514980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646463"/>
                </a:solidFill>
                <a:latin typeface="Arial"/>
              </a:rPr>
              <a:t>IGAD CLIMATE PREDICTION AND APPLICATIONS CEN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3"/>
          <p:cNvSpPr/>
          <p:nvPr/>
        </p:nvSpPr>
        <p:spPr>
          <a:xfrm>
            <a:off x="495360" y="6486480"/>
            <a:ext cx="23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AB164-D775-4E0D-A959-AF440490C592}" type="datetime2">
              <a:rPr b="0" lang="en-US" sz="1000" spc="-1" strike="noStrike">
                <a:solidFill>
                  <a:srgbClr val="ffffff"/>
                </a:solidFill>
                <a:latin typeface="Arial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971800" y="6486480"/>
            <a:ext cx="4311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GAD CLIMATE PREDICTION AND APPLICATIONS CEN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8247240" y="6486480"/>
            <a:ext cx="38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3A911-B9FD-4FB9-9339-FBED590CCE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1640" y="2960640"/>
            <a:ext cx="6840360" cy="6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83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833f"/>
                </a:solidFill>
                <a:latin typeface="Arial"/>
              </a:rPr>
              <a:t>SOMALIA</a:t>
            </a: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aliland National land policy finalised and Puntland Puntland’s regional disaster management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ion of National Development Plan (NDP) with mainstreamed gender and climate aspects is ongoing. Completion of draft ND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alia covered under Regional Climate Change Strategy for the IGAD member states. Regional Strategy to provide the basis for the National Climate Change Strategy for Somali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sibility and detail designs were prepared for physical interventions in Middle Shebelle, Hiraan and Galgaduud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malia delegation to 21st meeting of Conference of Parties in Paris of UN Framework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e Placeholder 3"/>
          <p:cNvSpPr/>
          <p:nvPr/>
        </p:nvSpPr>
        <p:spPr>
          <a:xfrm>
            <a:off x="495360" y="6486480"/>
            <a:ext cx="23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58BC5-629A-4CD7-953B-06E3724C3B50}" type="datetime2">
              <a:rPr b="0" lang="en-US" sz="1000" spc="-1" strike="noStrike">
                <a:solidFill>
                  <a:srgbClr val="646463"/>
                </a:solidFill>
                <a:latin typeface="Arial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2971800" y="6486480"/>
            <a:ext cx="4311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646463"/>
                </a:solidFill>
                <a:latin typeface="Arial"/>
              </a:rPr>
              <a:t>IGAD CLIMATE PREDICTION AND APPLICATIONS CENTRE (</a:t>
            </a:r>
            <a:r>
              <a:rPr b="1" lang="en-GB" sz="1000" spc="-1" strike="noStrike">
                <a:solidFill>
                  <a:srgbClr val="646463"/>
                </a:solidFill>
                <a:latin typeface="Arial"/>
              </a:rPr>
              <a:t>ICPAC</a:t>
            </a:r>
            <a:r>
              <a:rPr b="0" lang="en-GB" sz="1000" spc="-1" strike="noStrike">
                <a:solidFill>
                  <a:srgbClr val="646463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8247240" y="6486480"/>
            <a:ext cx="38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BE28E-0C26-45E5-BBA9-F28A0573EA4C}" type="slidenum">
              <a:rPr b="0" lang="en-US" sz="1000" spc="-1" strike="noStrike">
                <a:solidFill>
                  <a:srgbClr val="64646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833f"/>
                </a:solidFill>
                <a:latin typeface="Arial"/>
              </a:rPr>
              <a:t>COUNTRIES PARTICIPATED</a:t>
            </a:r>
            <a:endParaRPr b="0" lang="en-US" sz="28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95000" y="9907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jibo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 Su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P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s (DfID, UCT, Univ. of Leeds, WMO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ate Placeholder 3"/>
          <p:cNvSpPr/>
          <p:nvPr/>
        </p:nvSpPr>
        <p:spPr>
          <a:xfrm>
            <a:off x="495360" y="6486480"/>
            <a:ext cx="23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C4B84-B4CE-4CB5-A278-73216601FEDB}" type="datetime2">
              <a:rPr b="0" lang="en-US" sz="1000" spc="-1" strike="noStrike">
                <a:solidFill>
                  <a:srgbClr val="646463"/>
                </a:solidFill>
                <a:latin typeface="Arial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971800" y="6486480"/>
            <a:ext cx="4311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646463"/>
                </a:solidFill>
                <a:latin typeface="Arial"/>
              </a:rPr>
              <a:t>IGAD CLIMATE PREDICTION AND APPLICATIONS CENTRE (</a:t>
            </a:r>
            <a:r>
              <a:rPr b="1" lang="en-GB" sz="1000" spc="-1" strike="noStrike">
                <a:solidFill>
                  <a:srgbClr val="646463"/>
                </a:solidFill>
                <a:latin typeface="Arial"/>
              </a:rPr>
              <a:t>ICPAC</a:t>
            </a:r>
            <a:r>
              <a:rPr b="0" lang="en-GB" sz="1000" spc="-1" strike="noStrike">
                <a:solidFill>
                  <a:srgbClr val="646463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8247240" y="6486480"/>
            <a:ext cx="38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D908E0-BAA0-4E1A-BF5E-A9950DD2E2DF}" type="slidenum">
              <a:rPr b="0" lang="en-US" sz="1000" spc="-1" strike="noStrike">
                <a:solidFill>
                  <a:srgbClr val="64646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33f"/>
                </a:solidFill>
                <a:latin typeface="Arial"/>
              </a:rPr>
              <a:t>ISSUES DELIBERATED IN THE CLIMATE CHANGE GROUP</a:t>
            </a:r>
            <a:endParaRPr b="0" lang="en-US" sz="24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95000" y="6091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ificant impacts (positive and negative) that are expected in countries as a result of changing climatic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interventions in countries that support adaptation (or resilience) of communities or ecosystems to reduce further losses due to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cies implemented to mitigate climate change or its impa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 challenges in addressing climate change in th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opportunities for promoting climate change action at various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495360" y="6486480"/>
            <a:ext cx="23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6187B-525D-42E6-A0B8-9C9B058FBDBF}" type="datetime2">
              <a:rPr b="0" lang="en-US" sz="1000" spc="-1" strike="noStrike">
                <a:solidFill>
                  <a:srgbClr val="646463"/>
                </a:solidFill>
                <a:latin typeface="Arial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2971800" y="6486480"/>
            <a:ext cx="4311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646463"/>
                </a:solidFill>
                <a:latin typeface="Arial"/>
              </a:rPr>
              <a:t>IGAD CLIMATE PREDICTION AND APPLICATIONS CENTRE (</a:t>
            </a:r>
            <a:r>
              <a:rPr b="1" lang="en-GB" sz="1000" spc="-1" strike="noStrike">
                <a:solidFill>
                  <a:srgbClr val="646463"/>
                </a:solidFill>
                <a:latin typeface="Arial"/>
              </a:rPr>
              <a:t>ICPAC</a:t>
            </a:r>
            <a:r>
              <a:rPr b="0" lang="en-GB" sz="1000" spc="-1" strike="noStrike">
                <a:solidFill>
                  <a:srgbClr val="646463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8247240" y="6486480"/>
            <a:ext cx="38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C9CEE-FFD6-42FB-8076-B2FB3263520A}" type="slidenum">
              <a:rPr b="0" lang="en-US" sz="1000" spc="-1" strike="noStrike">
                <a:solidFill>
                  <a:srgbClr val="64646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833f"/>
                </a:solidFill>
                <a:latin typeface="Arial"/>
              </a:rPr>
              <a:t>SIGNIFICANT IMPACTS RESULTING FROM CLIMATE CHANGE CONDITIONS</a:t>
            </a:r>
            <a:endParaRPr b="0" lang="en-US" sz="22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95000" y="1244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risk of flooding, landslides, crop losses, internal population displacements, frost, pests and disease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needs to be robust to address "unprecedented extremes events", and not just about different weather of sam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495360" y="6486480"/>
            <a:ext cx="23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1B8CD-D859-4C36-B5FA-CAD2F47BFF1E}" type="datetime2">
              <a:rPr b="0" lang="en-US" sz="1000" spc="-1" strike="noStrike">
                <a:solidFill>
                  <a:srgbClr val="646463"/>
                </a:solidFill>
                <a:latin typeface="Arial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971800" y="6486480"/>
            <a:ext cx="4311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646463"/>
                </a:solidFill>
                <a:latin typeface="Arial"/>
              </a:rPr>
              <a:t>IGAD CLIMATE PREDICTION AND APPLICATIONS CENTRE (</a:t>
            </a:r>
            <a:r>
              <a:rPr b="1" lang="en-GB" sz="1000" spc="-1" strike="noStrike">
                <a:solidFill>
                  <a:srgbClr val="646463"/>
                </a:solidFill>
                <a:latin typeface="Arial"/>
              </a:rPr>
              <a:t>ICPAC</a:t>
            </a:r>
            <a:r>
              <a:rPr b="0" lang="en-GB" sz="1000" spc="-1" strike="noStrike">
                <a:solidFill>
                  <a:srgbClr val="646463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8247240" y="6486480"/>
            <a:ext cx="38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8CF51-2848-44EC-9891-685034038934}" type="slidenum">
              <a:rPr b="0" lang="en-US" sz="1000" spc="-1" strike="noStrike">
                <a:solidFill>
                  <a:srgbClr val="64646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833f"/>
                </a:solidFill>
                <a:latin typeface="Arial"/>
              </a:rPr>
              <a:t>SHORT TERM INTERVENTIONS IN COUNTRIES THAT SUPPORT ADAPTATION (OR RESILIENCE) OF COMMUNITIES </a:t>
            </a:r>
            <a:br>
              <a:rPr sz="2200"/>
            </a:br>
            <a:endParaRPr b="0" lang="en-US" sz="22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95000" y="1295280"/>
            <a:ext cx="891540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l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RM e.g., Water and land management approaches to mitigate the impacts of climatic extreme events have been implemented in Puntland and Somali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water for Agro-pasto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th Sud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d NDCs and about to finalize N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interventions by local communities eg. Construction of dykes to reduce impacts from riverline flo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495360" y="6486480"/>
            <a:ext cx="23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5FE82-09A0-4DFF-94B6-E157BA2F0560}" type="datetime2">
              <a:rPr b="0" lang="en-US" sz="1000" spc="-1" strike="noStrike">
                <a:solidFill>
                  <a:srgbClr val="646463"/>
                </a:solidFill>
                <a:latin typeface="Arial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2971800" y="6486480"/>
            <a:ext cx="4311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646463"/>
                </a:solidFill>
                <a:latin typeface="Arial"/>
              </a:rPr>
              <a:t>IGAD CLIMATE PREDICTION AND APPLICATIONS CENTRE (</a:t>
            </a:r>
            <a:r>
              <a:rPr b="1" lang="en-GB" sz="1000" spc="-1" strike="noStrike">
                <a:solidFill>
                  <a:srgbClr val="646463"/>
                </a:solidFill>
                <a:latin typeface="Arial"/>
              </a:rPr>
              <a:t>ICPAC</a:t>
            </a:r>
            <a:r>
              <a:rPr b="0" lang="en-GB" sz="1000" spc="-1" strike="noStrike">
                <a:solidFill>
                  <a:srgbClr val="646463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247240" y="6486480"/>
            <a:ext cx="38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89B63-F417-49D6-B13A-43BD265D5DAD}" type="slidenum">
              <a:rPr b="0" lang="en-US" sz="1000" spc="-1" strike="noStrike">
                <a:solidFill>
                  <a:srgbClr val="64646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833f"/>
                </a:solidFill>
                <a:latin typeface="Arial"/>
              </a:rPr>
              <a:t>IMPLEMENTATION OF MITIGATION MEASURES TO  CLIMATE CHANGE AND ITS IMPACTS </a:t>
            </a:r>
            <a:endParaRPr b="0" lang="en-US" sz="22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95000" y="10666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igation of climate change is sectoral ; eg Forestry (10% forest cover by 2022), Energy (use of energy efficient stoves), Transport (BRT), Agricultural (CS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habilitation of water catchment area, swamps e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grading of infrastructure (transport and drainage) to account for recurring extreme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495360" y="6486480"/>
            <a:ext cx="23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D3068-2349-4482-8904-E66931176EFC}" type="datetime2">
              <a:rPr b="0" lang="en-US" sz="1000" spc="-1" strike="noStrike">
                <a:solidFill>
                  <a:srgbClr val="646463"/>
                </a:solidFill>
                <a:latin typeface="Arial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2971800" y="6486480"/>
            <a:ext cx="4311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646463"/>
                </a:solidFill>
                <a:latin typeface="Arial"/>
              </a:rPr>
              <a:t>IGAD CLIMATE PREDICTION AND APPLICATIONS CENTRE (</a:t>
            </a:r>
            <a:r>
              <a:rPr b="1" lang="en-GB" sz="1000" spc="-1" strike="noStrike">
                <a:solidFill>
                  <a:srgbClr val="646463"/>
                </a:solidFill>
                <a:latin typeface="Arial"/>
              </a:rPr>
              <a:t>ICPAC</a:t>
            </a:r>
            <a:r>
              <a:rPr b="0" lang="en-GB" sz="1000" spc="-1" strike="noStrike">
                <a:solidFill>
                  <a:srgbClr val="646463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47240" y="6486480"/>
            <a:ext cx="38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30FB0-8967-4748-9F73-F698A50C917E}" type="slidenum">
              <a:rPr b="0" lang="en-US" sz="1000" spc="-1" strike="noStrike">
                <a:solidFill>
                  <a:srgbClr val="64646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833f"/>
                </a:solidFill>
                <a:latin typeface="Arial"/>
              </a:rPr>
              <a:t>THE KEY CHALLENGES IN ADDRESSING CLIMATE CHANGE IN THE COUNTRIES</a:t>
            </a:r>
            <a:br>
              <a:rPr sz="2200"/>
            </a:br>
            <a:endParaRPr b="0" lang="en-US" sz="22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560" y="914040"/>
            <a:ext cx="92962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 &amp; Ug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data and information (high resolution) to support adaptation at various levels eg Jonglei state and the Upper 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orm of duplication when it comes to project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forecasts to the grassroots is still a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being invested on the pea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from National to sub-national scales eg. Different ministries are having their own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lict of interest at different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 steering committee established in 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ID-19 has delayed implementation of climate change relate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495360" y="6486480"/>
            <a:ext cx="23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DCBB0-B521-4D47-A7A7-0F198824E551}" type="datetime2">
              <a:rPr b="0" lang="en-US" sz="1000" spc="-1" strike="noStrike">
                <a:solidFill>
                  <a:srgbClr val="646463"/>
                </a:solidFill>
                <a:latin typeface="Arial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971800" y="6486480"/>
            <a:ext cx="4311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646463"/>
                </a:solidFill>
                <a:latin typeface="Arial"/>
              </a:rPr>
              <a:t>IGAD CLIMATE PREDICTION AND APPLICATIONS CENTRE (</a:t>
            </a:r>
            <a:r>
              <a:rPr b="1" lang="en-GB" sz="1000" spc="-1" strike="noStrike">
                <a:solidFill>
                  <a:srgbClr val="646463"/>
                </a:solidFill>
                <a:latin typeface="Arial"/>
              </a:rPr>
              <a:t>ICPAC</a:t>
            </a:r>
            <a:r>
              <a:rPr b="0" lang="en-GB" sz="1000" spc="-1" strike="noStrike">
                <a:solidFill>
                  <a:srgbClr val="646463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8247240" y="6486480"/>
            <a:ext cx="38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F5C84-16EA-456C-8837-04D54C8606BD}" type="slidenum">
              <a:rPr b="0" lang="en-US" sz="1000" spc="-1" strike="noStrike">
                <a:solidFill>
                  <a:srgbClr val="64646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833f"/>
                </a:solidFill>
                <a:latin typeface="Arial"/>
              </a:rPr>
              <a:t>THE KEY CHALLENGES IN ADDRESSING CLIMATE CHANGE IN THE COUNTRIES</a:t>
            </a:r>
            <a:br>
              <a:rPr sz="2200"/>
            </a:br>
            <a:endParaRPr b="0" lang="en-US" sz="22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95000" y="10666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ga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cale up pilots and 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national planning and mainstreaming is lac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interpretation of climate and weather information and issue of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and use of technology to increase adaptive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ages of intervention with development eg. SD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ate Placeholder 3"/>
          <p:cNvSpPr/>
          <p:nvPr/>
        </p:nvSpPr>
        <p:spPr>
          <a:xfrm>
            <a:off x="495360" y="6486480"/>
            <a:ext cx="23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1748F-B498-4A25-856E-E0DD48E7B6B8}" type="datetime2">
              <a:rPr b="0" lang="en-US" sz="1000" spc="-1" strike="noStrike">
                <a:solidFill>
                  <a:srgbClr val="646463"/>
                </a:solidFill>
                <a:latin typeface="Arial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2971800" y="6486480"/>
            <a:ext cx="4311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646463"/>
                </a:solidFill>
                <a:latin typeface="Arial"/>
              </a:rPr>
              <a:t>IGAD CLIMATE PREDICTION AND APPLICATIONS CENTRE (</a:t>
            </a:r>
            <a:r>
              <a:rPr b="1" lang="en-GB" sz="1000" spc="-1" strike="noStrike">
                <a:solidFill>
                  <a:srgbClr val="646463"/>
                </a:solidFill>
                <a:latin typeface="Arial"/>
              </a:rPr>
              <a:t>ICPAC</a:t>
            </a:r>
            <a:r>
              <a:rPr b="0" lang="en-GB" sz="1000" spc="-1" strike="noStrike">
                <a:solidFill>
                  <a:srgbClr val="646463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8247240" y="6486480"/>
            <a:ext cx="38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C9238-AD24-48E9-9695-DEE6BB66B66A}" type="slidenum">
              <a:rPr b="0" lang="en-US" sz="1000" spc="-1" strike="noStrike">
                <a:solidFill>
                  <a:srgbClr val="64646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833f"/>
                </a:solidFill>
                <a:latin typeface="Arial"/>
              </a:rPr>
              <a:t>EXISTING OPPORTUNITIES FOR PROMOTING CLIMATE CHANGE ACTION AT VARIOUS LEVELS </a:t>
            </a:r>
            <a:endParaRPr b="0" lang="en-US" sz="2200" spc="-1" strike="noStrike">
              <a:solidFill>
                <a:srgbClr val="00833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95000" y="1066680"/>
            <a:ext cx="891540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 26 is important to think about adaptation and resilience and putting mechanisms in place for MSs to achieve their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ID-19 has shaded grey areas in terms of new approaches to address problems like climate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focus on research and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outputs that are already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vering from COVID-19 will happen in the face of climate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ships are key to achieving targets and sustainab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495360" y="6486480"/>
            <a:ext cx="23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9374C-6E47-4A4D-801D-40BAEC3A1226}" type="datetime2">
              <a:rPr b="0" lang="en-US" sz="1000" spc="-1" strike="noStrike">
                <a:solidFill>
                  <a:srgbClr val="646463"/>
                </a:solidFill>
                <a:latin typeface="Arial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2971800" y="6486480"/>
            <a:ext cx="4311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646463"/>
                </a:solidFill>
                <a:latin typeface="Arial"/>
              </a:rPr>
              <a:t>IGAD CLIMATE PREDICTION AND APPLICATIONS CENTRE (</a:t>
            </a:r>
            <a:r>
              <a:rPr b="1" lang="en-GB" sz="1000" spc="-1" strike="noStrike">
                <a:solidFill>
                  <a:srgbClr val="646463"/>
                </a:solidFill>
                <a:latin typeface="Arial"/>
              </a:rPr>
              <a:t>ICPAC</a:t>
            </a:r>
            <a:r>
              <a:rPr b="0" lang="en-GB" sz="1000" spc="-1" strike="noStrike">
                <a:solidFill>
                  <a:srgbClr val="646463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8247240" y="6486480"/>
            <a:ext cx="38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440E3-F538-4F86-8B06-8A59EC8AFFF5}" type="slidenum">
              <a:rPr b="0" lang="en-US" sz="1000" spc="-1" strike="noStrike">
                <a:solidFill>
                  <a:srgbClr val="64646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09:33:09Z</dcterms:created>
  <dc:creator>Apple Macintosh</dc:creator>
  <dc:description/>
  <dc:language>en-US</dc:language>
  <cp:lastModifiedBy>user3</cp:lastModifiedBy>
  <dcterms:modified xsi:type="dcterms:W3CDTF">2020-05-18T12:23:53Z</dcterms:modified>
  <cp:revision>189</cp:revision>
  <dc:subject/>
  <dc:title>PowerPoint Presentation</dc:title>
</cp:coreProperties>
</file>