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483-6A44-4094-A118-4C32DB00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906-4F1B-42E5-A9FF-8BA984DF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96F-5111-4124-8036-005294E9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CB2-6B35-4887-B4E8-8C8FBB77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D698-A7B8-43FF-B7D1-FEDBB50B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3F98-FEC2-43BA-A169-34AC2233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25A1-3EB6-4F5B-9510-1A73A1E2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3DD0-77DA-4D38-B431-2CB67CE3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703F-11A9-45A5-BA88-6DE0222E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9C03-42E7-4C29-BA3F-68FCB676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A6E0-01EE-451E-A999-E5F79ECC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3B6-48DB-44E0-BF3C-C274CAF2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85D3-AB44-4B79-995A-74E5B234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C7CD-AA76-4A34-B1F6-75AC3442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65A8-E99D-479C-9ECC-4FA81448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8282-28EF-46EA-9219-F7F931E0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964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2428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00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0964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2428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F60D-7743-48DE-8CF6-25FE1BFC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29238-5468-44E9-9C09-77EA9A4C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F3674-8554-4ED8-8973-237955D4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14B9-4074-456C-9944-434BE7DD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2121-218D-40C4-8D36-0AA4DD5C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7D34-3A59-499C-AA5B-B14020E9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77D-4086-4966-8C2A-CF9868EA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D2356-92EF-4730-ACFC-5895BB1D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C497-01DF-431D-A1D8-D841711B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86C7-1527-43EA-B6FB-393B33DC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721D-5178-4271-825B-BC27F939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E960B-EB26-4E3E-8AE3-D62E5ED0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32EF8-5740-467B-BB26-713EE0CA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964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2428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00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0964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2428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FB8F-BDB9-4B3D-B635-C8848108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9F392-96AF-47F7-8340-99DAE463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6AC4D-A12A-4757-9275-5C4216D7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DC360-5F94-4702-8108-8651464C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48A-FE99-4E49-BC14-76B0D6F4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20EB-268A-4548-B188-E92DE5B0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0C599-9E07-483B-8046-40FEA15B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5A9CE-75F6-4D6F-BAC6-EE505FE2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B68A-16D8-45CC-83AD-9D0A1608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09E85-0D2E-4B38-BD1F-E5D77BCC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15C16-CCAD-4967-9BEA-B0ADD55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A25C0-2A47-460F-BE81-CB592D0C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5D6F2-D78A-46B9-A310-FFCA4B37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4EEE1-3BCD-459D-B2C4-B86EDF26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1CC-522E-4E75-B9A6-A7EF3688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6C6-6740-4F68-9A17-D40AB1EC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F82-0FA0-4258-AF1E-64E418A7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D31-568B-4C26-AC06-80229CCD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00E-3FD2-46B1-ADE9-A2B6244A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33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486120"/>
            <a:ext cx="23112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6FBB2-EE61-4B75-BB85-F835559AD7D6}" type="datetime2">
              <a:rPr b="0" lang="en-US" sz="1000" spc="-1" strike="noStrike">
                <a:solidFill>
                  <a:srgbClr val="646463"/>
                </a:solidFill>
                <a:latin typeface="Times New Roman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86120"/>
            <a:ext cx="4311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Times New Roman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Times New Roman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47240" y="6486120"/>
            <a:ext cx="3888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6CF6D-5BF0-4C82-8D6F-61002D214675}" type="slidenum">
              <a:rPr b="0" lang="en-US" sz="1000" spc="-1" strike="noStrike">
                <a:solidFill>
                  <a:srgbClr val="64646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747280" y="5856120"/>
            <a:ext cx="766440" cy="92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4175280" y="228600"/>
            <a:ext cx="1220760" cy="147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8991720" y="5854680"/>
            <a:ext cx="685800" cy="825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33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95360" y="6486120"/>
            <a:ext cx="23112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92039-BB7F-48AB-AA6E-9E6E8087D6C8}" type="datetime2">
              <a:rPr b="0" lang="en-US" sz="1000" spc="-1" strike="noStrike">
                <a:solidFill>
                  <a:srgbClr val="646463"/>
                </a:solidFill>
                <a:latin typeface="Times New Roman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440" y="6489720"/>
            <a:ext cx="426708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Times New Roman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Times New Roman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47240" y="6486120"/>
            <a:ext cx="3888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9432B-27F6-4B8C-A79C-110281E7CC8B}" type="slidenum">
              <a:rPr b="0" lang="en-US" sz="1000" spc="-1" strike="noStrike">
                <a:solidFill>
                  <a:srgbClr val="64646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3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9042480" y="5908680"/>
            <a:ext cx="660240" cy="801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33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95360" y="6486120"/>
            <a:ext cx="23112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8E44B-B053-495C-AA00-7A80C88D7D70}" type="datetime2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971440" y="6486120"/>
            <a:ext cx="4311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GAD CLIMATE PREDICTION AND APPLICATIONS CENTRE (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CPAC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47240" y="6486120"/>
            <a:ext cx="3888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01BAF-7B24-44E4-A5A2-23572024D9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8747280" y="5856120"/>
            <a:ext cx="766440" cy="925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33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95360" y="6486120"/>
            <a:ext cx="23112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D60E6-EED8-4ACF-9EFC-8CB1094A706C}" type="datetime2">
              <a:rPr b="0" lang="en-US" sz="1000" spc="-1" strike="noStrike">
                <a:solidFill>
                  <a:srgbClr val="646463"/>
                </a:solidFill>
                <a:latin typeface="Times New Roman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2971800" y="6486120"/>
            <a:ext cx="4232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Times New Roman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Times New Roman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47240" y="6486120"/>
            <a:ext cx="3888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D02F7-44C3-41E3-BF2D-8E7DD42E22A5}" type="slidenum">
              <a:rPr b="0" lang="en-US" sz="1000" spc="-1" strike="noStrike">
                <a:solidFill>
                  <a:srgbClr val="64646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cpac.net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77360" y="2917800"/>
            <a:ext cx="84200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833f"/>
                </a:solidFill>
                <a:latin typeface="Arial"/>
              </a:rPr>
              <a:t>CLIMATE CHANGE </a:t>
            </a:r>
            <a:endParaRPr b="0" lang="en-US" sz="22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36120" y="5072040"/>
            <a:ext cx="842004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GEOFFREY SABI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HACOF 58: 27 MAY 20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rcRect l="5521" t="12133" r="4654" b="5066"/>
          <a:stretch/>
        </p:blipFill>
        <p:spPr>
          <a:xfrm>
            <a:off x="2289240" y="115920"/>
            <a:ext cx="6767280" cy="1728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rcRect l="15833" t="5523" r="17306" b="14457"/>
          <a:stretch/>
        </p:blipFill>
        <p:spPr>
          <a:xfrm>
            <a:off x="774720" y="115920"/>
            <a:ext cx="1144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9154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833f"/>
                </a:solidFill>
                <a:latin typeface="Arial"/>
              </a:rPr>
              <a:t>GLOBAL CLIMATE STATUS – WMO 2020 REPORT</a:t>
            </a:r>
            <a:endParaRPr b="0" lang="en-US" sz="28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70376-02B0-4423-887E-006CB6138299}" type="datetime2">
              <a:rPr b="0" lang="en-US" sz="1000" spc="-1" strike="noStrike">
                <a:solidFill>
                  <a:srgbClr val="646463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646463"/>
                </a:solidFill>
                <a:latin typeface="Arial"/>
              </a:rPr>
              <a:t>ICP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E1D0F-087C-4D9F-89C6-E38C9A03B554}" type="slidenum">
              <a:rPr b="0" lang="en-US" sz="1000" spc="-1" strike="noStrike">
                <a:solidFill>
                  <a:srgbClr val="64646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476280" y="685800"/>
            <a:ext cx="4991040" cy="2871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8" name="Rectangle 10"/>
          <p:cNvSpPr/>
          <p:nvPr/>
        </p:nvSpPr>
        <p:spPr>
          <a:xfrm>
            <a:off x="380880" y="4419720"/>
            <a:ext cx="9296640" cy="1434600"/>
          </a:xfrm>
          <a:prstGeom prst="rect">
            <a:avLst/>
          </a:prstGeom>
          <a:solidFill>
            <a:srgbClr val="1a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IPCC Special Report on 1.5°C GW stated that limiting warming to 1.5°C above pre-industrial levels implies reaching net zero CO2 emissions and non-CO2 forcers globally around 2050 and increased political commitments – Reaching 3°C will be catastroph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476280" y="3711600"/>
            <a:ext cx="499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Global mean temperatures difference from 1850-2020 (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486400" y="533520"/>
            <a:ext cx="4191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port of the Global Climate Status 2020 highlighted rapid changes in  climate change indicators and worsening imp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rapid changes are driven by anthropogenic activities (human activities, human decisi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mean temperature for 2020 was 1.2 ± 0.1 °C above the 1850–1900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9760" y="76320"/>
            <a:ext cx="89154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833f"/>
                </a:solidFill>
                <a:latin typeface="Arial"/>
              </a:rPr>
              <a:t>REGIONAL CLIMATE CHANGE SIGNALS</a:t>
            </a:r>
            <a:endParaRPr b="0" lang="en-US" sz="28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82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99EFD-E51A-4F3E-9CCE-B27A8DB58102}" type="datetime2">
              <a:rPr b="0" lang="en-US" sz="1000" spc="-1" strike="noStrike">
                <a:solidFill>
                  <a:srgbClr val="646463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646463"/>
                </a:solidFill>
                <a:latin typeface="Arial"/>
              </a:rPr>
              <a:t>ICP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B8F57-B8F6-487B-B319-65F28958520D}" type="slidenum">
              <a:rPr b="0" lang="en-US" sz="1000" spc="-1" strike="noStrike">
                <a:solidFill>
                  <a:srgbClr val="64646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rcRect l="3544" t="15989" r="5677" b="11264"/>
          <a:stretch/>
        </p:blipFill>
        <p:spPr>
          <a:xfrm>
            <a:off x="281160" y="838080"/>
            <a:ext cx="4519440" cy="23464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990720" y="64152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gional Temperatures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9"/>
          <p:cNvGrpSpPr/>
          <p:nvPr/>
        </p:nvGrpSpPr>
        <p:grpSpPr>
          <a:xfrm>
            <a:off x="5056200" y="3106800"/>
            <a:ext cx="4545000" cy="2587680"/>
            <a:chOff x="5056200" y="3106800"/>
            <a:chExt cx="4545000" cy="2587680"/>
          </a:xfrm>
        </p:grpSpPr>
        <p:pic>
          <p:nvPicPr>
            <p:cNvPr id="188" name="Picture 10" descr=""/>
            <p:cNvPicPr/>
            <p:nvPr/>
          </p:nvPicPr>
          <p:blipFill>
            <a:blip r:embed="rId2"/>
            <a:stretch/>
          </p:blipFill>
          <p:spPr>
            <a:xfrm>
              <a:off x="5056200" y="3106800"/>
              <a:ext cx="4545000" cy="20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"/>
            <p:cNvPicPr/>
            <p:nvPr/>
          </p:nvPicPr>
          <p:blipFill>
            <a:blip r:embed="rId3"/>
            <a:stretch/>
          </p:blipFill>
          <p:spPr>
            <a:xfrm>
              <a:off x="5056200" y="5157360"/>
              <a:ext cx="4258800" cy="53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Chart 12" descr=""/>
          <p:cNvPicPr/>
          <p:nvPr/>
        </p:nvPicPr>
        <p:blipFill>
          <a:blip r:embed="rId4"/>
          <a:stretch/>
        </p:blipFill>
        <p:spPr>
          <a:xfrm>
            <a:off x="225360" y="4035600"/>
            <a:ext cx="4687920" cy="2097000"/>
          </a:xfrm>
          <a:prstGeom prst="rect">
            <a:avLst/>
          </a:prstGeom>
          <a:ln w="0">
            <a:noFill/>
          </a:ln>
        </p:spPr>
      </p:pic>
      <p:sp>
        <p:nvSpPr>
          <p:cNvPr id="191" name="Freeform 13"/>
          <p:cNvSpPr/>
          <p:nvPr/>
        </p:nvSpPr>
        <p:spPr>
          <a:xfrm>
            <a:off x="3995640" y="4830840"/>
            <a:ext cx="912960" cy="863640"/>
          </a:xfrm>
          <a:custGeom>
            <a:avLst/>
            <a:gdLst/>
            <a:ahLst/>
            <a:rect l="l" t="t" r="r" b="b"/>
            <a:pathLst>
              <a:path w="2251110" h="1222232">
                <a:moveTo>
                  <a:pt x="0" y="1222232"/>
                </a:moveTo>
                <a:cubicBezTo>
                  <a:pt x="717369" y="657263"/>
                  <a:pt x="1434738" y="92294"/>
                  <a:pt x="1802675" y="7386"/>
                </a:cubicBezTo>
                <a:cubicBezTo>
                  <a:pt x="2170612" y="-77523"/>
                  <a:pt x="2137955" y="595215"/>
                  <a:pt x="2207623" y="712781"/>
                </a:cubicBezTo>
                <a:cubicBezTo>
                  <a:pt x="2277291" y="830347"/>
                  <a:pt x="2248988" y="771564"/>
                  <a:pt x="2220686" y="712781"/>
                </a:cubicBezTo>
              </a:path>
            </a:pathLst>
          </a:custGeom>
          <a:noFill/>
          <a:ln w="25560">
            <a:solidFill>
              <a:srgbClr val="00833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120600" y="34034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Merriweather"/>
              </a:rPr>
              <a:t>Decadal predictions shows continued increasing rainfall over most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2144880" y="4049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Mombasa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3760" y="837720"/>
            <a:ext cx="41907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wetter/more intense rainf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temperat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xtr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ability of timing of rainy se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833f"/>
                </a:solidFill>
                <a:latin typeface="Arial"/>
              </a:rPr>
              <a:t>WHAT HAVE WE LEARNT?</a:t>
            </a:r>
            <a:endParaRPr b="0" lang="en-US" sz="28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44520" y="691920"/>
            <a:ext cx="906624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trend is expected to continue rising and rainfall extremes are expected to increase if we don’t cut GHGs e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e change is already having repetitive cycles of severe impacts across member countries and communities in the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ulnerable people devastated by CC impacts are forced to migrate for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to address climate change in member countries have been constrained by the COVID-19 pandemic and other economic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equate efforts towards upscaling good practices and success stories across member states hinder progress on adaptation and mitigation go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climate change policies and strategies require regional frameworks and coordination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6B9B2-8A94-4446-963C-6B2205CBC27A}" type="datetime2">
              <a:rPr b="0" lang="en-US" sz="1000" spc="-1" strike="noStrike">
                <a:solidFill>
                  <a:srgbClr val="646463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646463"/>
                </a:solidFill>
                <a:latin typeface="Arial"/>
              </a:rPr>
              <a:t>ICP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31F7E-BE8B-41A0-B368-DCE172C2A0F0}" type="slidenum">
              <a:rPr b="0" lang="en-US" sz="1000" spc="-1" strike="noStrike">
                <a:solidFill>
                  <a:srgbClr val="64646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4520" y="90000"/>
            <a:ext cx="940896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833f"/>
                </a:solidFill>
                <a:latin typeface="Arial"/>
              </a:rPr>
              <a:t>RESEARCH TO PRACTICE: POLICY RECOMMENDATIONS AND ACTIONS</a:t>
            </a:r>
            <a:endParaRPr b="0" lang="en-US" sz="28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6020A-6F61-4655-8D3E-57DFDE817CDC}" type="datetime2">
              <a:rPr b="0" lang="en-US" sz="1000" spc="-1" strike="noStrike">
                <a:solidFill>
                  <a:srgbClr val="646463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646463"/>
                </a:solidFill>
                <a:latin typeface="Arial"/>
              </a:rPr>
              <a:t>ICP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50AFC-8CCC-4AFF-9F0D-32F950E9256B}" type="slidenum">
              <a:rPr b="0" lang="en-US" sz="1000" spc="-1" strike="noStrike">
                <a:solidFill>
                  <a:srgbClr val="64646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344520" y="1220760"/>
            <a:ext cx="895176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and analysis: Observations, forecasts, projections, down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nd information has to target member countries’ formulated climate actions through NAP / NDCs and other relevant policie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engagement across sectors – climate stakeholder mapping has been started by ICPAC through RICCAMA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fy and demonstrate the benefit for taking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 up required human and technical capacity to mobilize resources and implement NDCs has to be provided to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344520" y="5105520"/>
            <a:ext cx="925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833f"/>
                </a:solidFill>
                <a:latin typeface="Arial"/>
              </a:rPr>
              <a:t>Take action NOW – Tomorrow might be too l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9735E-7E56-4930-8FC3-3946D4E39E98}" type="datetime2">
              <a:rPr b="0" lang="en-US" sz="1000" spc="-1" strike="noStrike">
                <a:solidFill>
                  <a:srgbClr val="ffffff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GAD CLIMATE PREDICTION AND APPLICATIONS CENTRE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CPA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F2B7F-521B-4EA7-B4A3-112A4D24EE9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3024360"/>
            <a:ext cx="8420040" cy="4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f4be49"/>
                </a:solidFill>
                <a:latin typeface="Arial"/>
              </a:rPr>
              <a:t>T</a:t>
            </a:r>
            <a:r>
              <a:rPr b="1" lang="en-US" sz="2200" spc="-1" strike="noStrike">
                <a:solidFill>
                  <a:srgbClr val="f4be49"/>
                </a:solidFill>
                <a:latin typeface="Arial"/>
              </a:rPr>
              <a:t>HANK YOU! </a:t>
            </a:r>
            <a:endParaRPr b="0" lang="en-US" sz="22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3466800"/>
            <a:ext cx="84200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ntribute to the Conversation on Twitter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#GHACOF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icpac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09:33:09Z</dcterms:created>
  <dc:creator>Apple Macintosh</dc:creator>
  <dc:description/>
  <dc:language>en-US</dc:language>
  <cp:lastModifiedBy>user3</cp:lastModifiedBy>
  <dcterms:modified xsi:type="dcterms:W3CDTF">2021-05-26T13:51:04Z</dcterms:modified>
  <cp:revision>214</cp:revision>
  <dc:subject/>
  <dc:title>PowerPoint Presentation</dc:title>
</cp:coreProperties>
</file>