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7489-60ED-4FE9-95DE-69BE69535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DE60-7B9A-4268-8BD6-A4DE33C16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E8BF-A0D1-4D64-8436-0497EC283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D8BC-AA2B-4ED5-AE6B-717C3F898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8A7-31DC-4B8E-9DD0-02B6A94A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CDDB-876A-41A4-8E2E-F4C51D22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33F8-FFF1-47B6-B841-A6FF71E1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ED98-62A6-44E0-B521-69754B22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22B2-7C2F-4586-879B-E8E8C91F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17E6-53ED-4C76-A466-D6451F78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74C8-9368-469F-8FBD-A50E19D9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8986-7E03-4020-84D0-D94C0E65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3633-1071-4955-9035-BFBBE767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4861-5CF1-4653-8CF0-AEB5CB23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086D-38B0-4047-A63D-239CEA7F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969-5B13-4AAC-99DE-A7A63652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16AD-D524-437E-A60C-551E9700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743B-0ED7-4E42-BBB5-3B8896E1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99FF-6C68-485C-B1B2-165AE8E8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3ADF-B7B2-47DA-A23B-AD7F0BB8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8D66-D8D9-44B2-8DD8-4FDC2202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78E-5A12-4732-908E-E568B95B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E91-ECA6-4E2E-A5F1-A0021365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2A9-6093-4ECF-AFD5-B25887BA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0F3-A4C4-4F10-B1C9-0FA8B5E6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4A36-2B72-4563-8658-56C59784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B76-1F0F-4B3B-8302-1C4FF4A5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DF3-1496-4D57-9FD7-2E7330F5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1FD1-0C3D-40DE-BBFF-AC16B1D999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AB86-AAC2-47C9-9451-29C2AB30A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1904760"/>
            <a:ext cx="8915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ational Meteorological Agency of Ethiopia PRCD performanc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elg (Feb-May) 20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Ahmedin 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-360" y="30492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Comic Sans MS"/>
              </a:rPr>
              <a:t>Belg refers to 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February to M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b0f0"/>
                </a:solidFill>
                <a:latin typeface="Comic Sans MS"/>
                <a:ea typeface="Times New Roman"/>
              </a:rPr>
              <a:t>seco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70c0"/>
                </a:solidFill>
                <a:latin typeface="Comic Sans MS"/>
              </a:rPr>
              <a:t>rainy season for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North East, East, Central and Southern Highland of the count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Comic Sans MS"/>
              </a:rPr>
              <a:t>Main Rainy season for </a:t>
            </a:r>
            <a:r>
              <a:rPr b="0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South and South-eastern </a:t>
            </a:r>
            <a:r>
              <a:rPr b="0" i="1" lang="en-US" sz="2800" spc="-1" strike="noStrike">
                <a:solidFill>
                  <a:srgbClr val="0070c0"/>
                </a:solidFill>
                <a:latin typeface="Comic Sans MS"/>
              </a:rPr>
              <a:t>Ethiop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Highly Variable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ess predictable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, due to its erratic rainfall na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Comic Sans MS"/>
              </a:rPr>
              <a:t>Time of the year where </a:t>
            </a:r>
            <a:r>
              <a:rPr b="0" lang="en-US" sz="28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Daily maximum Temperature </a:t>
            </a:r>
            <a:r>
              <a:rPr b="0" i="1" lang="en-US" sz="2800" spc="-1" strike="noStrike">
                <a:solidFill>
                  <a:srgbClr val="0070c0"/>
                </a:solidFill>
                <a:latin typeface="Comic Sans MS"/>
              </a:rPr>
              <a:t>to be pi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152280"/>
          <a:ext cx="8991720" cy="8618760"/>
        </p:xfrm>
        <a:graphic>
          <a:graphicData uri="http://schemas.openxmlformats.org/drawingml/2006/table">
            <a:tbl>
              <a:tblPr/>
              <a:tblGrid>
                <a:gridCol w="4419720"/>
                <a:gridCol w="45720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act Observed Negative/Posativ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sure that were ta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57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eastern parts of the country were projected  to receive normal to tending to below normal rainf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 and southeastern Ethiopia were forecasted to get normal to below normal rainfall for the  Belg 2013seas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ly, in view the projected La-Nina phenomena and  variability nature of the Belg season, the rainfall were projected to experience erratic rain in the  Belg 2021 seas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ers are advised to plant drought tolerant crop cultivars. Parallel to this, In-situ as well as Ex-situ water conservation and rain water harvesting practice are communicated ahead tim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85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stern half of the country was forecasted to have normal to above normal rainfal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stern and Central including Southern high ground of Ethiopia will be under the domination of normal rainfal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elect excess moisture tolerant crop varieties for planting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rain out excessive moisture from crop fields. early preparation of diverting the run off to the normal path of the stream flow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used several communication Mechanism to aware farmer; radio, tv, government structure and agricultural development agent …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y forwar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rove engagement with stakeholders and communities, understand their requirements, Design of user-focused services, including early warning service, which meets user needs. Improve engagement with stakeholders across government to understand climate information service requirements (ie: agriculture, health, water, insurance,  etc.), Design of user focused climate services which meet user nee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y forwar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stitutionalization of existing face-to-face platforms (establishing binding coordination mechanisms such as MoU and defining clear approaches that apply to all administration tiers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1139760" y="530280"/>
            <a:ext cx="713916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2T08:07:10Z</dcterms:created>
  <dc:creator>negedem</dc:creator>
  <dc:description/>
  <dc:language>en-US</dc:language>
  <cp:lastModifiedBy>AA</cp:lastModifiedBy>
  <dcterms:modified xsi:type="dcterms:W3CDTF">2021-05-24T11:45:23Z</dcterms:modified>
  <cp:revision>315</cp:revision>
  <dc:subject/>
  <dc:title>National meteorological agency</dc:title>
</cp:coreProperties>
</file>